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C1C1-5A85-41DC-8CE3-B7C187413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C68B-6EEE-469D-9805-D4107E87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10FEB3-8D90-4B49-B372-4A163B7F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7F18B-199A-442C-83ED-173161E8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8CD35B-81B9-4B1F-9F7E-3D1A5A2D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C4C94-49C3-4719-9963-C95EA883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7115A6-DD13-4D5B-803E-18BD03C0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B4C3AC-D07E-43C4-A9AE-ADB35B79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1EEA7-A92B-4A9A-ADF9-94E3D535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77BB0-A9AA-4388-A08D-D77698DB0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15A17A-4D28-4E8E-8253-B88319143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705CD7-233B-48EA-A5E3-AB34CA4F7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BA5D-83B4-45E6-8C45-9EA1BA4B5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D32604-46DF-4B37-99FC-3B662BAD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EA5D3C-19E0-4941-8316-ECAA0E20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E8AAF0-DF17-42C5-984B-4DDBE562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D2F41-1B67-47F1-9ADC-765A4470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3FF591-8442-487A-85B8-64361554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4D6A70-8C24-4F47-8418-15D81E49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64CDB2-C159-4418-A406-637BEBDB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0BEE94-164F-4DFB-8E8C-0C189B5F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CD8DF-E915-4C62-BE3C-6885B726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81604E-27C0-4C45-B34F-57B257E7C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A8E4-E30C-4726-B40C-F0BDAF18A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F972A1-F9DF-4ABD-AA07-075A75A31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7DA68-5801-43D9-8FB8-7B5FA655E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28A10-DC19-405E-AEFD-E6486674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EB76D-2A79-4AD9-B603-224E42B5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F3662-C45E-4A8B-B32D-A8634F3A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3AC65-7BD1-4571-9E0F-F39DB00E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60625-0845-4D56-B9EF-6D621BDC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03A4E-4908-4B8B-AFF4-F9F32AB4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0BEFE-83F9-4058-9CAC-5CE86F6D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2F1B4-7342-48D8-8CE8-292AC857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9BA2-A293-46C0-8D2F-4BBB2AD2F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65DF4-F7C5-4B2F-AC77-F8F2D066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82F39-9FF7-4CC1-B0CA-FF5B7E451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6CDCC-66C0-42FB-A0B4-BB06E88C2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7BB95E-7AD5-4CDC-A1D0-5E0E3D1A6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5F1814-176C-47E0-926B-AF8E75BC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70E2A1-284B-494A-ADEA-8BD9A3C4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5711FA-55A2-4901-B034-FB4C0816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C69BD6-C0B3-4442-96C9-4F8A32D0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6E3224-FB72-4C8D-8196-6600CE86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53647C-8208-4A37-8A5E-00818539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9B2F-ED26-45CE-97BF-9E2F28B9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3930E9-3DF5-4040-90E4-21B5F6DA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FD4E7F-958C-4F89-B706-91DB6DCA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6A1B59-0BAD-47D6-AE65-9DF9FF4D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04214A-1E41-47A9-9051-6DCE2A6B4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83703B-D863-459E-A392-17700F540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351677-B2F6-4A8F-8138-93C95E7BD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669904-D0E8-42D8-AED8-CB6E9654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85C468-AAC5-44A5-9285-98500D50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F35FCF-914C-401E-9010-B7FA44ED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DDC10C-E81A-4AAB-9F1C-C54E99C0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85FC-06B7-46A7-9DB1-D63C1C54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CB4580-D458-4F84-9040-8ED709C2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62E906-C040-4B74-87DB-4B0F0538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6544FA-E59F-4DF8-9019-3AEE16BC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4D01E4-F17D-4A97-A44E-D69DAC54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BFFC37-17EB-4585-BD22-58CB0CCA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D498A5-78F7-4D2B-BA5E-0628579C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7B46B6-939B-4117-AD51-DBD254875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886C06-1DBB-4BB1-96D2-32F851B4F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185DC2-7456-4D15-BB91-EFD49474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5370C3-56DD-4E64-AD15-2F7C03B2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B365-2A49-40A8-ABBA-3F11BEAE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EAEA01-BA6E-4E5E-B3DF-A204778F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A43260-F64B-4617-BC94-1CCFDF8F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2DA542-A171-46C2-B2F3-C8C7218A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9163B1-4E0A-41D3-866C-BCA74F38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96B2E8-DD9D-4DA5-8859-68081E5E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D7D170-47D0-4C61-AFF5-4F2DDDB7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89D1BA-BCC7-4188-8483-8428EBC3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2B0867-15FB-4591-BE69-25DFA69B6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2E21D1-BD79-4CDD-9EC5-054A735A0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A99639-1E46-4BA3-AA77-906114F5E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99AE-D98A-4262-93D2-7150209E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62C4CE-F255-4402-97C4-DBAA4516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F24DEA-F93C-4A71-AF2F-7DEA607E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FD02CC-EB31-4F26-B349-62384805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32AF11-6932-4C52-8024-726C62A1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ED7D42-AF65-4E2A-A07A-A5B1E246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EE6E94-BB06-427D-88ED-8BA80BD3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8EFACF-68A3-47A4-9F2E-CEFD7882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0B829D-25DC-4D72-A114-C640AECD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0AE751-1BEF-4F60-9D93-615A6EC7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646F06-A63A-41E3-BF3E-AD0D8DDDD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781A-4AF7-484D-8BC3-19AADC88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7FA9B4-68BB-489B-86FD-58C484EC6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3672D5-6381-4689-AD5A-D031EC509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7E6E29-D4F7-44B0-976A-0679581A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651EA2-9D64-4AE7-B1E3-D048D9E8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A488D7-8479-4860-9E8C-B141FAE6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F6020A-24C6-43E1-8861-42973AE4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16384D-6789-48FB-B875-855FDDDF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8F47AE-3A47-4270-AF8C-C42D3F73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AFF8EF-0472-4558-8425-A878E3A3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D7668A-AC41-4D82-B66D-3B8EF660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8BA4-EC64-4E2B-B7DD-59161E67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78906D-7A1F-47E8-A579-6B28EBEA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954FC7-DBAE-45B6-A8EC-680292D57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EEC00B-11B3-451F-A382-27B728A02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7E76B0-5AF6-4AFF-9075-5D88FEAD7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B9E716-A0DB-4B79-80B2-BB1D7044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A30E07-905A-43B8-AFA6-F1440F6D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FCCDB6-DF71-41A6-B894-F79854C2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D822D1-F9F8-42D1-81AE-E248DC62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18AB66-A401-4B35-98B4-75D6019B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564833-4B1E-496C-B872-BC08AEF8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8E3F-1AF7-441F-811E-C0F57786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28E5-278F-4C14-916E-DDC1DA31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CCB281-CE80-4CC4-A422-3DF59D6D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BEF8A5-05A8-4863-8B52-8917E990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9A10E5-B9DB-4D7E-BEB4-54C6A2CC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8BE0E8-E62B-48E3-B7DE-994F7FFA4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F70391-3D1D-4572-925D-F0F9268D1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F84821-8581-4107-B711-182DD85B2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82BC65-57D1-45F8-B614-27AF41AF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58CADD-03D5-44F4-B962-ABF17500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089058-F568-44C2-906C-18655B65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48803D-9FC9-4479-9A25-B4E5DCFA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DA44-0799-4B04-92C5-DF81C2D4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D2F078-0D3A-4EF8-9440-CC759F00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EC3B39-3E15-4C70-A9BA-0E0A7672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324735-48B6-4B92-90BE-2AD2A5D0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545683-97D9-4C7D-BC0C-6D9E3389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919A9A-198F-4C23-B26E-9D8598AC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20EA67-7626-4A6F-AED3-1B6FDE76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382A2F-51F3-4CD2-8A0E-A1E89B490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E9FE5F-E4E8-48F3-9DBB-C2C7CC668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E60375-B8C0-405C-9454-147B4240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494213-019C-47C9-B0AE-2DEDE636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2B14-D52A-4703-A24C-24B352B7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5CD31F-2F6F-4BC9-B342-5253D388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B51076-7F8C-4B04-AB26-D624B336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0FFE11-2CB5-4A7D-8DC9-8C6878F5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9B66BE-F8BC-4F97-BBF6-8EA468BB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87D63F-D0FE-41CC-9A70-29B114CD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C59034-5E4C-4A96-B30C-E2C07FF9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C25A9A-4A88-41B3-B9A2-1E7AD5F7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97913D-450C-4389-A246-960D63F46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99DC67-B44E-4DA5-B789-DDD63FDBA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9AECA7-4DEE-4A0A-857D-2F6E57D52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3AC4-011C-4C18-A2B9-1AE1C2AEF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5CD5EB-F9F7-4F01-B9E3-9BBA88CC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6445E5-0D28-4F9A-9297-F826798E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3CF459-2122-4665-BEB3-F883D018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38A234-B3E0-48AE-9346-954C94B5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E9870B-3FAB-46DD-A37E-8BD84FAD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3CB25E-1D99-4560-9865-0BB327B6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5B1B1E-75EE-42E9-913C-2DA820FF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8A0D45-789D-4619-948E-4D6E507E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1E2213-42C9-41CD-A4D6-949FE56C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67240A-D6AD-4E1D-9BA4-09A2E195F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758B-3AD4-4C67-A17A-D2414114C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3D0CB4-6589-4969-98CD-4B1CFF375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D5A960-9454-4BC4-A660-3E342E2CE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7017C9-FCE1-43E8-8D54-57A24AF1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33A027-3790-4148-901F-C7021759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A736B3-C3FE-4F8D-88C8-A8AF89D9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0D1D5A-DEA6-4822-ABD9-2A07BC17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4FA947-BD9D-4195-9BF9-22718998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3BBFF1-784C-411A-918A-B0B69CD5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81FC4E-AB4D-4012-B6BC-D309A4BC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89D0E4-EF53-42DB-B075-52FA6FC9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F29A2-9B21-4BB8-AB81-37A02BB56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525965-8F50-402C-B2A0-FED6DA05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27B1E9-6612-4165-A010-F20EBEE3A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C0C4AC-7155-432B-A1F2-6A39C4F99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8A18BE-1438-46E5-99DC-3CBAEDB1A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1FF877-4E16-4CBF-8CC0-9AD52C9E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2CFD67-DBA4-4D27-A319-B8C10A6A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581C87-18B3-4DA1-874C-168A3E4F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AA9CD7-87A8-4680-89C1-E25DF41E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AC019A-D6AE-4725-87EC-6CAF6305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870EAD-80CD-45B1-AFAB-CD55BF1C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46F97-887B-4C44-BFA0-D00565D9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0D3870-D088-402F-9E36-6403C72E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A34664-C9AD-4B3A-8F5D-DE895B16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6FA1FB-BAC6-416B-B461-8B0AC0E6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7CE8E7-C699-45A8-9BE7-2233EF086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3C4570-9CAB-4626-B71A-9FEB97C56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8922D4-621C-4B7D-9212-3CC8CFC57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7BE32E-4E1C-43B4-A888-C329CFF6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997160-225E-4560-A9AD-79A9DCE2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F7E669-B061-40E7-AF70-B78AC543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D606ED-B70B-45CA-A8F1-0164F50A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8733F-CC03-4B46-AD98-CFB53A18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38828D-5772-4514-9BC0-8BFD5606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5DC972-5B3E-4574-8ABD-5D9FC81C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825CC9-8DBD-4E75-B196-8E54D0DA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18FFD5-A4B5-4161-A225-BF32803E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F7698D-33D3-4E3F-AD2A-7C10930F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B1647C-F4DC-4F83-86D4-35793FFD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248D43-EA47-411D-9F29-3EE33FBAA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73190A-07F8-426F-A6D9-5CA1EBEBB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F1D4BB-741A-4966-A248-DC2836C8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A397E4-4982-4C96-940E-050AAE03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5E2A1-7D3E-46AF-8FC3-ED0C66A6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C7CF71-5722-490B-8FC9-C3021BC6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9DD27A-F0D8-431A-AFA9-8BFF736C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2F5FA5-EFE4-4928-9CDE-118A88CD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089792-18DE-4EA5-ABB7-66C293A8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D25386-68A3-42DF-8F5F-FF5FA61C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2C9986-6975-4BB5-B023-FC6D40FA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1029FA-2A15-448C-9604-3F345E58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436F56-6C52-4351-8260-452AD6773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1CE38B-9547-46A8-AA70-E818E1FA5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8C783AE-270F-433E-B9F1-E77DD68EF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1876B-6C28-4899-8005-B99B1674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EB1447C-2DFA-4C04-ABF6-9185BE31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D0C8B9-A9DC-47F2-8870-7DB96CA7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AAC740-14FD-4FC6-8B6E-C3EA6D5F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FA833D-F442-4461-ABEE-54F3301B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4053152-20C6-470C-A327-B7EEFD8F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E1BB4C3-CFEC-41F9-91B9-3C9C94DB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672B82F-6CB0-4DA6-92CA-5DA3C0CD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140B4D-69E8-4781-A9BB-A7B9E7ED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94CEB2-DDF0-45BB-A80D-92D33086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A642DBC-1E35-42C7-9A89-ADAAF96A6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1D1E-C20A-421F-8464-86BDFA25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D8290-4FCA-4F98-9929-878E5FA5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E892457-55EC-47EC-A989-D6811FF72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891DF9-827B-49D9-AD4B-DF2D4C89B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3CFC571-FF5B-49C0-92A1-7C2E14C8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5DE670C-76DC-4736-9504-7BD05CE1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9EA6BB6-03C3-455D-A4E1-6C20B348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3EC4726-2443-4D80-A8DA-0D1567EC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24CD41-F9AF-4A33-8B77-34236B08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4B14DB2-AA8A-43E0-80E0-9780293D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54801B-29F2-4D53-899A-4599EC96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854C56B-FE6F-4576-AAA7-D45F393B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07010-46D0-41C4-8730-D610871F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76A4AFA-CB8D-4A99-9D8E-008D1AEE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5D3D622-8826-4E32-9357-3D57455C3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1F9CB6-B817-4A23-849E-4B1D9158D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2A9885F-3613-4EB9-81E3-FEDF9CA99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281313D-D31A-4088-B90C-524A5552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8BB5032-1D27-4C51-AC53-A8226065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C085DB9-7891-40F7-A49F-AF7DEC6B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D263EC6-EC50-47A7-AE6B-912F91DE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0D13F7C-0444-4056-80AF-BFDD4A5B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ECC08A-2963-4D67-BEA3-E56409D4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D0F7D-0195-467E-8292-4947630A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164BC05-22D8-499A-BAE0-0219DAEC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677728D-3F1D-424F-A7E6-642130B9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6C13A12-E621-434A-8E23-F71CFA19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CB6251B-317F-4A24-A0EE-4004E3DF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B595C68-C728-48AB-AB5D-45BC09CFE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86AABE8-9EFD-42E2-9EDE-4294D7D16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7D2E0E6-3318-4C02-88B4-2ACC93CA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EA52D1-9162-4528-99B5-27F90E5A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6E66F2A-09CF-41D2-991E-C80A75DF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7D481FE-98F6-4A4E-B821-19A147D5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E23C9-19A0-4F0A-82A7-8FA471F6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50F061F-2ED7-4895-B725-B60BB787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8DEF84C-80B4-4004-A93D-D4B60B2C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8342BB1-B45A-4E40-B2EA-1EDBC9CB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AD3B5CA-13CD-4C97-A087-0C0639EE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8C011BC-1227-4D58-A417-4B3908AE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487A9B1-14D2-4EF8-826D-95B35684C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2366824-2CD2-4123-846D-8D573E86B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4F3BC80-F33D-4ACD-96D8-9D4A69C11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D48EF79-B813-400A-9EF2-D223D545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CC53FF2-B7A7-436D-B452-5083E6FB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220B5-CA14-45EB-95DD-6E24ACCE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893D5D0-19C1-4197-B9E9-C47E46BC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092B950-ED41-4BA8-9FEF-C921AC86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69DE7AA-5F13-456D-972A-B1653F6C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0397495-8063-473E-95AD-A86F5CD2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D201FC5-5F18-4B47-8647-48E1E812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99CCD56-C77E-4DA8-9FBF-B9F723FF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2E37407-1B1E-41CC-8CD5-786264EF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3DE247C-669D-437D-A709-C1535F88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5829CBD-90E8-4A25-8FEC-6A4C4FDC0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B7EE6A2-EDAF-4451-9549-E328693AB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6B799-A6CF-448F-8559-7B6E5CE7B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DA6E1F7-D8A2-4D7D-9D34-B758AA0D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F59E0C1-E44B-43BA-BD5B-0A96F2AD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EBE9555-88C7-493D-AB1D-E670E82C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6AB5E7B-DEDE-426F-9CE6-11ADE8EF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D0E025D-33D2-4EFB-90EF-678A7A92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E91D16C-84FE-476B-900A-252F76C6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BF23DFC-2D33-44FA-987F-401C587F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2DBD03B-6F64-488A-AC91-39950BC8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515976F-7B13-4366-B9AA-56458964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7E77136-CF21-43CD-902A-34CC0CF81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4B687-168A-40D7-B75C-E102ADF52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932B632-954C-4707-960E-DD148BC27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F949491-4CEA-49B9-8778-034D61B87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491B945-0D7D-4060-A235-244722EC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4838FA5-D8C3-464C-BEAF-530A5F96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2A990EC-934C-4CAA-A5F6-B6E487DF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0180B67-23A6-419B-8070-F38B0BC1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93947B3-344B-4169-A82C-B29D521E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EF69EF4-2A77-4089-9840-5EC35731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25743E9-A408-4386-9EDE-AC0A52A8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B17529E-D0E0-485F-AF0C-072E2038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21449-0A97-49CA-B9BC-56B844F8E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8A74F60-F995-44A4-BE50-A8289752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169D91E-821B-487D-B5FE-4197D80F5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E9B690D-B9FC-4FB9-BDD5-A23A0CF41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015B1-D8A8-4634-837A-234C3B9D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9DB1A-4AA3-44ED-AFEA-ECB0EE7C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5B2D-9E5E-4FD9-8F64-C022F459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C4C60-072B-4ADD-A254-F020EBFE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7676E-3D9B-432E-95B7-F37E42A2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25192-7ADB-4C50-9416-4F5BF9B3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7A996-7BC3-4394-8F4E-E755F072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9776E-A24E-4D8A-A7C9-4413E641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18C1E-C6E5-4252-98EB-74A9A0E4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7061E-3CC0-47DE-AD4D-C4C07129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94149-D128-4594-9EE9-077011B29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F491A-C436-4780-A94C-11EEC3882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00FCA-6F08-4488-9CDD-6A51A26D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8D7A-3878-402D-9DA5-B6817F85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F537D-ECAB-4AD9-B3D7-5B8F14E8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10306-078F-4E2E-B4DF-FD8E7995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79E71-DE41-453D-A67C-10F0756A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1BD61-035A-41B2-94B4-D68AC215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E472E-BE62-42FD-A18D-D7393BA4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31B5E-68EC-4B3B-83BB-52AAD5E6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6D943-13C3-4FE8-A08A-9CF84AB5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9CAD7-E498-48E6-85C4-6F76D0E2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EB908-3A61-4295-94FD-56E814C4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C2B88-F497-47A1-93DE-8EAEC2D0B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94A9-463E-4032-937D-19FEE895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A3C1F-124B-40EF-8154-3BEEC16DA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B2509-7B04-429D-8E97-DA64EECCE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86636-3B46-41B9-B510-F793047B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48318-D82A-4A6D-9BDB-0F64FCA2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44606-3740-4ADD-AF04-E6A5D7C1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3029B-8FE1-4A1E-810F-1F1F81D3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5B291-590B-41C2-8C4D-D7342F3C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1F1DE-2D4F-4D61-B4AE-EE215570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1AD70-31DD-454D-AE62-B94B43A6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1A07D-D87E-4028-B8EA-014D1ADA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75BD-7A68-44EC-9E60-D17C04ED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84888-3BA0-4428-96E5-81C1336C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92EDC-BC85-43A0-9CE5-3F536544A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F04A9-AE74-4DDD-A262-22541B1F4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B39F4-7234-444F-BE56-99580D8D6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1BEC1-5E17-4937-A0D5-0E062C36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A3B3D-142B-4401-ABE4-0ED5F2E7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11059-7BCB-4108-98F8-0ED44521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FB577-C1FF-4B54-A766-4FB2EAF9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2A200-4F7D-43BA-B2AA-24A4BD92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B2BD7-150F-40C8-BFB2-F9A1CC56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35C8-88D3-487C-AE7E-F484F334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0374D-CA82-4A8F-BA09-9D59930E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5C97F-7316-4F83-B507-1B2D6E97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91AF7-D957-4114-A18A-07394914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08C71-1026-4758-B2D3-D4B8A45DD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BE6DB-8F14-4D7E-9B86-8270CC431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A03D3-9877-42EF-8447-F6E7F00B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CB4D9-39A5-4D4F-A821-1044E826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43589-D1F8-4D04-ADF6-271EDD1D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3FA06-F926-4660-BFE7-C01395EE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F7949-83E0-44F6-A94D-81AB9364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3DFE-7779-4734-AF4E-C57F32C9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0F518-99DB-4579-8960-725DF62A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58095-B9FE-4271-9AAF-B37BEC9F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1066C-59D7-4765-8A32-990F07D2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B97B0-3C1A-4254-872A-C285AF67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25EB7-4641-45EF-8378-7A479E0A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99496-F457-43F8-855E-86CB3ABC7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DF30D-EABC-49F3-AF85-0262D55CB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E3EDAC-4303-45C8-A798-1F0E84343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B5595B-541E-43DB-886A-B2362DC7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C4233-D8FE-430B-9F75-26BEEB93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BBD9-4EA9-4264-ADBC-1B5C494645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9248-84D2-45ED-B588-6FF803F838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6AA6-2A68-4579-8D2C-A2731D4CAD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BAD0-941E-4655-A9B7-75C4F53F12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8594-9D3A-4C80-B3DF-CFEBEE1B38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D674-8306-4E1E-972D-231A05ACC5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9A3B-9F8A-4C7B-8F95-E20785BA48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E9FB-9601-4A56-A52A-B4288D0046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FFB0-E616-4B40-B4C9-39F0595B04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A073-94C9-4E45-AE1B-BF32B7ED7E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F8AE-D894-4ACF-8482-57D33DB421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7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1CB3-1FC4-4106-A934-C99B542E16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88A2-50DC-416C-AC0F-EEF0B40EA7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DFFD-50CC-452D-8F85-B0AF9A93A0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582D-515A-4F6C-9CE9-CFDE1AF7BC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75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6694-782A-4073-8D44-2ECF0C7118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7F9E-68EE-4BBA-984A-7DD36DD976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1093-4DD2-4558-B9B8-EF2B3BF078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1B50-1B4A-476F-B606-BC93480C38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0FC0-E881-4A1B-961C-842EC4FC76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86B3-C882-4A6B-8911-1D59022EE2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9D4F-1E2D-4174-A7C2-984CE2F3BB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A29B-6663-4CA7-B068-AC50209D19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36FE-6DD8-47A7-81A6-3CF59996A1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88B3-F1EE-41D4-AB15-27886A4753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9B79-A8AF-4AF1-82A6-3CFD76C540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30EC-78EE-440F-9736-D9C6CF848A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97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1170-5365-43E0-9C16-D60DAE7DBC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D4BC-EE5B-4D5F-B638-D6071FD684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2159-E436-42DC-AC47-BC620C5887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98BB-8276-497A-B945-672FCD093A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F97D-91F2-4A95-BF1C-70C26FC0D3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1645-209A-456F-931C-6A1631702B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8704-1880-4100-8461-69414A1B1F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44DB-EBCD-4DDB-89A8-A3840A5BC4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5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8036-A63A-4F11-B7DC-12E13DBE38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1AD9-1CC4-420E-B931-78F00BF810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9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7F03-83EE-4895-BDBE-78AF26CB86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4623-5602-4B65-B9FD-97D3091155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296D-E387-474E-8FFB-44F51C3458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24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5F71-BF79-4AC9-A1FD-D98D72C874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EE48-8543-40FD-BFA1-C80BD0DD93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128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08CD-BD98-40C6-91E5-844CB41CED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4CFB-CFCC-41B1-8494-CEAB1C3B8E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36B5-1F1F-4CD8-A0DF-E542B1DABB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2527-9E77-46DE-9BB7-20BC380584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CC6F-9BC9-44E5-89CB-9852E680B1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56E5-3164-4296-920C-505E48F8CD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BAC3-0EF1-4733-A3E9-2649365AA4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82DE-7FFC-4A83-A96D-E437DA1D04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图片 40984" descr=""/>
          <p:cNvPicPr/>
          <p:nvPr/>
        </p:nvPicPr>
        <p:blipFill>
          <a:blip r:embed="rId1"/>
          <a:stretch/>
        </p:blipFill>
        <p:spPr>
          <a:xfrm>
            <a:off x="1816200" y="1193760"/>
            <a:ext cx="5410080" cy="762120"/>
          </a:xfrm>
          <a:prstGeom prst="rect">
            <a:avLst/>
          </a:prstGeom>
          <a:ln w="0">
            <a:noFill/>
          </a:ln>
        </p:spPr>
      </p:pic>
      <p:pic>
        <p:nvPicPr>
          <p:cNvPr id="1332" name="图片 40985" descr=""/>
          <p:cNvPicPr/>
          <p:nvPr/>
        </p:nvPicPr>
        <p:blipFill>
          <a:blip r:embed="rId2"/>
          <a:stretch/>
        </p:blipFill>
        <p:spPr>
          <a:xfrm>
            <a:off x="2598840" y="2401920"/>
            <a:ext cx="3743280" cy="733320"/>
          </a:xfrm>
          <a:prstGeom prst="rect">
            <a:avLst/>
          </a:prstGeom>
          <a:ln w="0">
            <a:noFill/>
          </a:ln>
        </p:spPr>
      </p:pic>
      <p:pic>
        <p:nvPicPr>
          <p:cNvPr id="1333" name="图片 40986" descr=""/>
          <p:cNvPicPr/>
          <p:nvPr/>
        </p:nvPicPr>
        <p:blipFill>
          <a:blip r:embed="rId3"/>
          <a:stretch/>
        </p:blipFill>
        <p:spPr>
          <a:xfrm>
            <a:off x="179280" y="4653000"/>
            <a:ext cx="7267680" cy="1638360"/>
          </a:xfrm>
          <a:prstGeom prst="rect">
            <a:avLst/>
          </a:prstGeom>
          <a:ln w="0">
            <a:noFill/>
          </a:ln>
        </p:spPr>
      </p:pic>
      <p:sp>
        <p:nvSpPr>
          <p:cNvPr id="1334" name="矩形 40987"/>
          <p:cNvSpPr/>
          <p:nvPr/>
        </p:nvSpPr>
        <p:spPr>
          <a:xfrm>
            <a:off x="565200" y="5826240"/>
            <a:ext cx="20746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矩形 40988"/>
          <p:cNvSpPr/>
          <p:nvPr/>
        </p:nvSpPr>
        <p:spPr>
          <a:xfrm>
            <a:off x="4349880" y="5826240"/>
            <a:ext cx="20746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6" name="图片 140289" descr=""/>
          <p:cNvPicPr/>
          <p:nvPr/>
        </p:nvPicPr>
        <p:blipFill>
          <a:blip r:embed="rId1"/>
          <a:stretch/>
        </p:blipFill>
        <p:spPr>
          <a:xfrm>
            <a:off x="700200" y="901800"/>
            <a:ext cx="7134120" cy="3581280"/>
          </a:xfrm>
          <a:prstGeom prst="rect">
            <a:avLst/>
          </a:prstGeom>
          <a:ln w="0">
            <a:noFill/>
          </a:ln>
        </p:spPr>
      </p:pic>
      <p:sp>
        <p:nvSpPr>
          <p:cNvPr id="1337" name="矩形 140290"/>
          <p:cNvSpPr/>
          <p:nvPr/>
        </p:nvSpPr>
        <p:spPr>
          <a:xfrm>
            <a:off x="755640" y="1558800"/>
            <a:ext cx="243036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矩形 140291"/>
          <p:cNvSpPr/>
          <p:nvPr/>
        </p:nvSpPr>
        <p:spPr>
          <a:xfrm>
            <a:off x="4616280" y="1533600"/>
            <a:ext cx="24307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矩形 140292"/>
          <p:cNvSpPr/>
          <p:nvPr/>
        </p:nvSpPr>
        <p:spPr>
          <a:xfrm>
            <a:off x="628560" y="4073400"/>
            <a:ext cx="24307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矩形 140293"/>
          <p:cNvSpPr/>
          <p:nvPr/>
        </p:nvSpPr>
        <p:spPr>
          <a:xfrm>
            <a:off x="4565520" y="4086360"/>
            <a:ext cx="24307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1" name="图片 139265" descr=""/>
          <p:cNvPicPr/>
          <p:nvPr/>
        </p:nvPicPr>
        <p:blipFill>
          <a:blip r:embed="rId1"/>
          <a:stretch/>
        </p:blipFill>
        <p:spPr>
          <a:xfrm>
            <a:off x="623880" y="892080"/>
            <a:ext cx="7591320" cy="4515120"/>
          </a:xfrm>
          <a:prstGeom prst="rect">
            <a:avLst/>
          </a:prstGeom>
          <a:ln w="0">
            <a:noFill/>
          </a:ln>
        </p:spPr>
      </p:pic>
      <p:sp>
        <p:nvSpPr>
          <p:cNvPr id="1342" name="矩形 139266"/>
          <p:cNvSpPr/>
          <p:nvPr/>
        </p:nvSpPr>
        <p:spPr>
          <a:xfrm>
            <a:off x="717480" y="1940040"/>
            <a:ext cx="2379600" cy="769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矩形 139267"/>
          <p:cNvSpPr/>
          <p:nvPr/>
        </p:nvSpPr>
        <p:spPr>
          <a:xfrm>
            <a:off x="4489560" y="1952640"/>
            <a:ext cx="237960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矩形 139268"/>
          <p:cNvSpPr/>
          <p:nvPr/>
        </p:nvSpPr>
        <p:spPr>
          <a:xfrm>
            <a:off x="679320" y="4911840"/>
            <a:ext cx="18208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矩形 139269"/>
          <p:cNvSpPr/>
          <p:nvPr/>
        </p:nvSpPr>
        <p:spPr>
          <a:xfrm>
            <a:off x="4527720" y="4924440"/>
            <a:ext cx="18205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6" name="图片 138241" descr=""/>
          <p:cNvPicPr/>
          <p:nvPr/>
        </p:nvPicPr>
        <p:blipFill>
          <a:blip r:embed="rId1"/>
          <a:stretch/>
        </p:blipFill>
        <p:spPr>
          <a:xfrm>
            <a:off x="365040" y="819000"/>
            <a:ext cx="5238720" cy="4838760"/>
          </a:xfrm>
          <a:prstGeom prst="rect">
            <a:avLst/>
          </a:prstGeom>
          <a:ln w="0">
            <a:noFill/>
          </a:ln>
        </p:spPr>
      </p:pic>
      <p:sp>
        <p:nvSpPr>
          <p:cNvPr id="1347" name="矩形 138242"/>
          <p:cNvSpPr/>
          <p:nvPr/>
        </p:nvSpPr>
        <p:spPr>
          <a:xfrm>
            <a:off x="743040" y="1978200"/>
            <a:ext cx="29764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矩形 138243"/>
          <p:cNvSpPr/>
          <p:nvPr/>
        </p:nvSpPr>
        <p:spPr>
          <a:xfrm>
            <a:off x="1289160" y="2511360"/>
            <a:ext cx="29764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矩形 138244"/>
          <p:cNvSpPr/>
          <p:nvPr/>
        </p:nvSpPr>
        <p:spPr>
          <a:xfrm>
            <a:off x="781200" y="4708440"/>
            <a:ext cx="378936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矩形 138245"/>
          <p:cNvSpPr/>
          <p:nvPr/>
        </p:nvSpPr>
        <p:spPr>
          <a:xfrm>
            <a:off x="1886040" y="5241960"/>
            <a:ext cx="220176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1" name="图片 137217" descr=""/>
          <p:cNvPicPr/>
          <p:nvPr/>
        </p:nvPicPr>
        <p:blipFill>
          <a:blip r:embed="rId1"/>
          <a:stretch/>
        </p:blipFill>
        <p:spPr>
          <a:xfrm>
            <a:off x="720720" y="960480"/>
            <a:ext cx="4933800" cy="2371680"/>
          </a:xfrm>
          <a:prstGeom prst="rect">
            <a:avLst/>
          </a:prstGeom>
          <a:ln w="0">
            <a:noFill/>
          </a:ln>
        </p:spPr>
      </p:pic>
      <p:pic>
        <p:nvPicPr>
          <p:cNvPr id="1352" name="图片 137218" descr=""/>
          <p:cNvPicPr/>
          <p:nvPr/>
        </p:nvPicPr>
        <p:blipFill>
          <a:blip r:embed="rId2"/>
          <a:stretch/>
        </p:blipFill>
        <p:spPr>
          <a:xfrm>
            <a:off x="901800" y="4129200"/>
            <a:ext cx="6095880" cy="1038240"/>
          </a:xfrm>
          <a:prstGeom prst="rect">
            <a:avLst/>
          </a:prstGeom>
          <a:ln w="0">
            <a:noFill/>
          </a:ln>
        </p:spPr>
      </p:pic>
      <p:sp>
        <p:nvSpPr>
          <p:cNvPr id="1353" name="矩形 137219"/>
          <p:cNvSpPr/>
          <p:nvPr/>
        </p:nvSpPr>
        <p:spPr>
          <a:xfrm>
            <a:off x="768240" y="1901880"/>
            <a:ext cx="4208400" cy="89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矩形 137220"/>
          <p:cNvSpPr/>
          <p:nvPr/>
        </p:nvSpPr>
        <p:spPr>
          <a:xfrm>
            <a:off x="1936800" y="2892600"/>
            <a:ext cx="11984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矩形 137221"/>
          <p:cNvSpPr/>
          <p:nvPr/>
        </p:nvSpPr>
        <p:spPr>
          <a:xfrm>
            <a:off x="895320" y="4721400"/>
            <a:ext cx="18082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6" name="图片 136193" descr=""/>
          <p:cNvPicPr/>
          <p:nvPr/>
        </p:nvPicPr>
        <p:blipFill>
          <a:blip r:embed="rId1"/>
          <a:stretch/>
        </p:blipFill>
        <p:spPr>
          <a:xfrm>
            <a:off x="420840" y="927000"/>
            <a:ext cx="7896240" cy="3353040"/>
          </a:xfrm>
          <a:prstGeom prst="rect">
            <a:avLst/>
          </a:prstGeom>
          <a:ln w="0">
            <a:noFill/>
          </a:ln>
        </p:spPr>
      </p:pic>
      <p:sp>
        <p:nvSpPr>
          <p:cNvPr id="1357" name="矩形 136194"/>
          <p:cNvSpPr/>
          <p:nvPr/>
        </p:nvSpPr>
        <p:spPr>
          <a:xfrm>
            <a:off x="704880" y="2409840"/>
            <a:ext cx="7624800" cy="70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矩形 136195"/>
          <p:cNvSpPr/>
          <p:nvPr/>
        </p:nvSpPr>
        <p:spPr>
          <a:xfrm>
            <a:off x="2000160" y="3349800"/>
            <a:ext cx="18208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矩形 136196"/>
          <p:cNvSpPr/>
          <p:nvPr/>
        </p:nvSpPr>
        <p:spPr>
          <a:xfrm>
            <a:off x="2000160" y="3908520"/>
            <a:ext cx="18208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0" name="图片 135169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143840" cy="2828880"/>
          </a:xfrm>
          <a:prstGeom prst="rect">
            <a:avLst/>
          </a:prstGeom>
          <a:ln w="0">
            <a:noFill/>
          </a:ln>
        </p:spPr>
      </p:pic>
      <p:sp>
        <p:nvSpPr>
          <p:cNvPr id="1361" name="矩形 135170"/>
          <p:cNvSpPr/>
          <p:nvPr/>
        </p:nvSpPr>
        <p:spPr>
          <a:xfrm>
            <a:off x="920880" y="1978200"/>
            <a:ext cx="7129440" cy="70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矩形 135171"/>
          <p:cNvSpPr/>
          <p:nvPr/>
        </p:nvSpPr>
        <p:spPr>
          <a:xfrm>
            <a:off x="2139840" y="2879640"/>
            <a:ext cx="236700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矩形 135172"/>
          <p:cNvSpPr/>
          <p:nvPr/>
        </p:nvSpPr>
        <p:spPr>
          <a:xfrm>
            <a:off x="2152800" y="3438360"/>
            <a:ext cx="23666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4" name="图片 134145" descr=""/>
          <p:cNvPicPr/>
          <p:nvPr/>
        </p:nvPicPr>
        <p:blipFill>
          <a:blip r:embed="rId1"/>
          <a:stretch/>
        </p:blipFill>
        <p:spPr>
          <a:xfrm>
            <a:off x="665280" y="946080"/>
            <a:ext cx="4714920" cy="2857680"/>
          </a:xfrm>
          <a:prstGeom prst="rect">
            <a:avLst/>
          </a:prstGeom>
          <a:ln w="0">
            <a:noFill/>
          </a:ln>
        </p:spPr>
      </p:pic>
      <p:sp>
        <p:nvSpPr>
          <p:cNvPr id="1365" name="矩形 134146"/>
          <p:cNvSpPr/>
          <p:nvPr/>
        </p:nvSpPr>
        <p:spPr>
          <a:xfrm>
            <a:off x="743040" y="1901880"/>
            <a:ext cx="4576680" cy="68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矩形 134147"/>
          <p:cNvSpPr/>
          <p:nvPr/>
        </p:nvSpPr>
        <p:spPr>
          <a:xfrm>
            <a:off x="1962000" y="2816280"/>
            <a:ext cx="194796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矩形 134148"/>
          <p:cNvSpPr/>
          <p:nvPr/>
        </p:nvSpPr>
        <p:spPr>
          <a:xfrm>
            <a:off x="1886040" y="3362400"/>
            <a:ext cx="194760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8" name="图片 133121" descr=""/>
          <p:cNvPicPr/>
          <p:nvPr/>
        </p:nvPicPr>
        <p:blipFill>
          <a:blip r:embed="rId1"/>
          <a:stretch/>
        </p:blipFill>
        <p:spPr>
          <a:xfrm>
            <a:off x="720720" y="985680"/>
            <a:ext cx="6381720" cy="3286440"/>
          </a:xfrm>
          <a:prstGeom prst="rect">
            <a:avLst/>
          </a:prstGeom>
          <a:ln w="0">
            <a:noFill/>
          </a:ln>
        </p:spPr>
      </p:pic>
      <p:sp>
        <p:nvSpPr>
          <p:cNvPr id="1369" name="矩形 133122"/>
          <p:cNvSpPr/>
          <p:nvPr/>
        </p:nvSpPr>
        <p:spPr>
          <a:xfrm>
            <a:off x="666720" y="2092320"/>
            <a:ext cx="5046840" cy="68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133123"/>
          <p:cNvSpPr/>
          <p:nvPr/>
        </p:nvSpPr>
        <p:spPr>
          <a:xfrm>
            <a:off x="1949400" y="2905200"/>
            <a:ext cx="178272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矩形 133124"/>
          <p:cNvSpPr/>
          <p:nvPr/>
        </p:nvSpPr>
        <p:spPr>
          <a:xfrm>
            <a:off x="1974960" y="3870360"/>
            <a:ext cx="11095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1T00:47:05Z</dcterms:modified>
  <cp:revision>6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